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DB3-642B-4EEF-8D14-27CA47CC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F21-09C2-4147-8920-C407D487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329-6B0F-4DAF-A511-ACF6373D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CF5-2E84-4037-AAB8-37571A42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6984-BE32-4F98-8112-853E1D18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E657-338C-430F-B9CB-542B1C9E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D178-1CE3-4042-9B47-CFC0FFDC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3DCE-C5EA-4CDB-910E-24ACFAC4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678B-EECD-4B50-A869-7CB3759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D2FA-D443-4195-BEC1-1823DDD3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3128-8BA9-4325-92E1-F29A2AF0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E29-B949-49C3-9B72-9B763848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30C-B9F3-45B1-A63B-BAB7A544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B74A-98D8-4FE9-BF17-A05BED59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0846-D961-4DCB-82C1-036F123F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E830-2970-487C-B7D2-E1AE78EC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1759-7E01-46C8-B796-3C993604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C64-042E-426F-B8F1-23F911E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9C5-D551-4A07-AF00-F3010DB5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EBE-28E6-43BA-AC00-C8D85E9E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9A9-CD0F-4673-AE5F-9D22016F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31D-DD90-40E6-8BD0-36A4BA4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1AE-A5F7-4716-A8D0-EEB76E1F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6AE-1CB8-409E-ADAE-F90EF7D7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F6E7-E860-41CB-AF11-A51303FB1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E137-16EE-472E-B823-5F1ADE33FC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4/Rachel-Carson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121932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и хронична тровања из животне сре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0" y="25146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здравствена заштита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д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762120" y="5486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хлор-дифенил-трихлорет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 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тисан 1874.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на својства откривена 1939.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1940. до 1960.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н је за сузбијање маларије и тифу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ма СЗ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ва акција је спасила око 25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забрањен због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ицаја на животну средин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iStock-898449496-compressor-e1519401819245.jpg"/>
          <p:cNvPicPr/>
          <p:nvPr/>
        </p:nvPicPr>
        <p:blipFill>
          <a:blip r:embed="rId1"/>
          <a:stretch/>
        </p:blipFill>
        <p:spPr>
          <a:xfrm>
            <a:off x="914400" y="4572000"/>
            <a:ext cx="7620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а материја (полута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гађујућа материја (полутант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дефинише као супстанца која се јавља у животној средини и делимично може бити последица људске активности и изазива штетне ефекте по живе организ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ример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ласифик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гађивач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живот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ОРЕКЛ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риродн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антропоген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ФИЗИЧКО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ХЕМИЈСКОЈ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ИРОД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физичко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гас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теч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чврс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хемијск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неорганс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органс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ВОЈСТВ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растворљив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од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уљу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маст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нерастворљиви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од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разблажењ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стојанос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реактивност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другим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супстанца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ЕКТОРИ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РЕДИ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аздух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земљиш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ИЗВОР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родук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сагоревања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горив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ндустријск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комунал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отпац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отпац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љопривредн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ЕФЕКТ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директ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ндиректн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токсик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акутн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хроничн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корозив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агенс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38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е супстанце у ланцу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Content Placeholder 3" descr="Capture.PNG"/>
          <p:cNvPicPr/>
          <p:nvPr/>
        </p:nvPicPr>
        <p:blipFill>
          <a:blip r:embed="rId1"/>
          <a:stretch/>
        </p:blipFill>
        <p:spPr>
          <a:xfrm>
            <a:off x="1633680" y="1633680"/>
            <a:ext cx="5876640" cy="4459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4114800" y="1676520"/>
            <a:ext cx="83808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038480" y="2438280"/>
            <a:ext cx="99072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809880" y="3276720"/>
            <a:ext cx="137160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и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038480" y="4114800"/>
            <a:ext cx="99072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3809880" y="4876920"/>
            <a:ext cx="1371600" cy="1008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но    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286000" y="4876920"/>
            <a:ext cx="114300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н вазду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5486400" y="4876920"/>
            <a:ext cx="121932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на   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хлоровани бифени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C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олихлоровани бифенили (PCB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рганска једињења која садрже супституисане хлорове атоме. Они се не производе већ се стварају при производњи пластичних материјала, растварача, пестицид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ком 70-их година утврђено да су токсични и да остварују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нцерог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таген ефека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бог добре растворљивости у мастима олакшана је њихова акумулациј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а на уређаји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адрже PCB материјал, особађају се паре полихлорованих дибензодиоксина које су токсичне. Тако су забележене еколошке катастрофе 1977. године (Канада), 1985. године (Француск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цуривањем уљ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адржи PCB има катастрофалне последице јер се абсорбује у земљишту и и укључује у ланац исхране. Такав случај забележен је у Јапану 1968.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вод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143000"/>
            <a:ext cx="4876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дент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ање нафте из танкер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.2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она тона годиш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вод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инств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рџен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е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вод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и радионукле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материје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ц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 штеточина и вектора болест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Untitled1-horz.jpg"/>
          <p:cNvPicPr/>
          <p:nvPr/>
        </p:nvPicPr>
        <p:blipFill>
          <a:blip r:embed="rId1"/>
          <a:stretch/>
        </p:blipFill>
        <p:spPr>
          <a:xfrm>
            <a:off x="5410080" y="2438280"/>
            <a:ext cx="358164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бактерије и цијанотоксин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14040"/>
            <a:ext cx="4952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Цијанобактерије или </a:t>
            </a:r>
            <a:r>
              <a:rPr b="1" i="1" lang="en-U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одрозелен</a:t>
            </a:r>
            <a:r>
              <a:rPr b="1" i="1" lang="sr-R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</a:t>
            </a:r>
            <a:r>
              <a:rPr b="1" i="1" lang="en-U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алг</a:t>
            </a:r>
            <a:r>
              <a:rPr b="1" i="1" lang="sr-R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 веома разнолику групу прокариотских организама чија се старост процењује на отприлике 2,3 до 2,9 милијарди година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унал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пад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штачк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ерал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ђубрива и детерџе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 доводе до повећања концентрација соли фосфора и азота што узроку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рм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бактерија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зв. “цветањ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”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од последица цветања је производња високо активних токсичних метаболита ил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токси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algae.jpg"/>
          <p:cNvPicPr/>
          <p:nvPr/>
        </p:nvPicPr>
        <p:blipFill>
          <a:blip r:embed="rId1"/>
          <a:stretch/>
        </p:blipFill>
        <p:spPr>
          <a:xfrm>
            <a:off x="5638680" y="990720"/>
            <a:ext cx="33530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цијанотокс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токсини су према начину деловања односно  према типу токсичности који изазивају код животиња и  људи,  подељени у 4  клас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полисахаридни енд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забележени случај тровања цијанобактер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8. године у Аустралиј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вешка и Финс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загађења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штавање воденог екосисте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бројности бактерија, протозоа, цр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бројности риб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провидности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 хемијски састав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а температура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(дизентерија, малариј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количина органских материја у 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И ХРОНИЧНА ТРОВАЊА ИЗ ЖИВОТНЕ 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 ТЕШКИМ МЕТАЛИМА  (ОЛОВО, ЖИВА, БАКА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земљишт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мерно загађење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дент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 и водо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браћајни удес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но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омаћинства и индустријс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чврстог отпада као ђубр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зиција из ваздух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 и прашина и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њак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а и снег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си река и мор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пестицид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земљиш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–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ФИЗИЧКЕ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ЗМЕНЕ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У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ЕМЉИШ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бан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радњ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раструк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технички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лоатациј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х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зиј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I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–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ХЕМИЈСКО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ГАЂ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ив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II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–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ЉОПРИВРЕДА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ШУМАР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ционалн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авањ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а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опривредн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ционалн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авањ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ивача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ск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ењ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иња</a:t>
            </a:r>
            <a:r>
              <a:rPr b="1" lang="hr-H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ертификација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загађења земљиш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 хемијски састав земљиш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ација тешких метала, пестиц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ење пустиња (дезертификациј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прино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 физички изглед (депониј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драва х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гађења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9036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није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уналног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 се годишње произведе око 3,5 милиона m³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ног отпада (0,65–0,85 kg/становник/дан)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ој земљ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оји 170 званичних депонија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ј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ше стотина дивљих депон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57200" y="419112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ниј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устријско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п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 се годишње продукује и депонује 6 -7 милиона тона пепел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је пепела и шљаке у нашој земљи заузимају 1.800 хектар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ног земљиш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vinca-deponija-djubre-smece-mondo-goran-sivacki-33.jpg"/>
          <p:cNvPicPr/>
          <p:nvPr/>
        </p:nvPicPr>
        <p:blipFill>
          <a:blip r:embed="rId1"/>
          <a:stretch/>
        </p:blipFill>
        <p:spPr>
          <a:xfrm>
            <a:off x="5943600" y="1371600"/>
            <a:ext cx="304812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Image22.jpg"/>
          <p:cNvPicPr/>
          <p:nvPr/>
        </p:nvPicPr>
        <p:blipFill>
          <a:blip r:embed="rId2"/>
          <a:stretch/>
        </p:blipFill>
        <p:spPr>
          <a:xfrm>
            <a:off x="5943600" y="4495680"/>
            <a:ext cx="30481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атмосфе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 представља танак слој ваздуха (гасова) који окружује планету Земљ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с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ин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енергетс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компон.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њ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о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онс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браћа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хемијски смог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sr-RS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Фотохемијски смо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стање које настаје када примарне загађујуће супстанце (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зотни оксид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арљива органска једињењ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ала сагоревањем фосилних горива) интерагују под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јством сунчеве светл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ући смешу од опасних хемијских супстанци познатих као секундарне загађујуће супстанце од којих је најпознатиј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N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перокси-ацетил-нитра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хемијски смо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381560" cy="3009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038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228600" y="1143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хемијски смог доводи до надражаја слузокоже дисајних органа, очију, и нарушавања вегет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атмосфе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хемијско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бил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86. </a:t>
            </a: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јин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ор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ширил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актив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Content Placeholder 7" descr="cernobyl_radioactive_cloud.gif"/>
          <p:cNvPicPr/>
          <p:nvPr/>
        </p:nvPicPr>
        <p:blipFill>
          <a:blip r:embed="rId1"/>
          <a:stretch/>
        </p:blipFill>
        <p:spPr>
          <a:xfrm>
            <a:off x="4876920" y="1600200"/>
            <a:ext cx="3917880" cy="41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загађења ваздух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 хемијски састав ваздух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озонског омотач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иселе киш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стаклене баш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ење шу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(астма, бронхитис,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ућ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ласк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а у организам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 коже (перкутано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пираторним путем (инхалација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естивним путем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гестија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Еко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функционална јединица у природи, која укључује организме и њихову животну средину. Животна средина је сачињена од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родних хемијских 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штачк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емијских супстанц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е великог броја хемијских материја у воду,ваздух и земљиште у количинама које природа не може да превазиђе механизмима ауторегулације довело је до негативних утицаја на људско здравље и живот, флору и фау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921b650a76d7a32dbe94a0aaa0afd20b.jpg"/>
          <p:cNvPicPr/>
          <p:nvPr/>
        </p:nvPicPr>
        <p:blipFill>
          <a:blip r:embed="rId1"/>
          <a:stretch/>
        </p:blipFill>
        <p:spPr>
          <a:xfrm>
            <a:off x="5029200" y="1447920"/>
            <a:ext cx="4114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кутани унос отро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а супстанц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да продре кроз кожу, онда њена токсичност зависи од степена 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пциј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е супстанц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ују много брже кроз оштећену кож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ој мери ће се 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а супстанц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овати кроз кожу зависи од њене растворљивости у мастима (липофилне супстанце). 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е супстанц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могу да се растворе у мастима много брже пролазе кроз кожу од оних растворних у вод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нос отров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м путе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е супстанце 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 ситних честица (прашина) или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д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ар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традиционалних аерозагађивача (сумпор диоксид, оксиди азота, угљен моноксид, суспендована честична материја и олово) директно утичe на респираторни и кардиоваскуларни сист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и пут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а у организа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ом се уносе загађујуће 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су присутне у храни и пић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при томе с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ују преко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окож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ог тра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 загађујуће супстанц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Content Placeholder 4" descr=""/>
          <p:cNvPicPr/>
          <p:nvPr/>
        </p:nvPicPr>
        <p:blipFill>
          <a:blip r:embed="rId1"/>
          <a:stretch/>
        </p:blipFill>
        <p:spPr>
          <a:xfrm>
            <a:off x="401760" y="1517760"/>
            <a:ext cx="8304120" cy="4992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533520" y="6094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ој мери ће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а супстанц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 токсична зависи од следећих проце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о дејство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е супстанц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рганизам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5" descr=""/>
          <p:cNvPicPr/>
          <p:nvPr/>
        </p:nvPicPr>
        <p:blipFill>
          <a:blip r:embed="rId1"/>
          <a:stretch/>
        </p:blipFill>
        <p:spPr>
          <a:xfrm>
            <a:off x="390600" y="1584360"/>
            <a:ext cx="336384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аж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н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јство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е 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 да надражују очи, горње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њ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е путев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3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а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HCHO (формалдехид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ови оксиди непосредно после продирања у организам за кратко време проузрокују оштећења плућ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f16358df4d813ae64eb6f99bb7ecaff7.jpg"/>
          <p:cNvPicPr/>
          <p:nvPr/>
        </p:nvPicPr>
        <p:blipFill>
          <a:blip r:embed="rId1"/>
          <a:stretch/>
        </p:blipFill>
        <p:spPr>
          <a:xfrm>
            <a:off x="1143000" y="2209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огено деј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а, азбестна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ина могу да проузрокуј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озу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ргијско деј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умоалер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ментарни алерг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алер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 на кож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, базе, растварачи,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и дермат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о дејство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иоци животне средине који изазивају мутације се зову мутагени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је су хемијске промене гена, њиховог броја и редоследа у хромозомима и преносе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еће генерациј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о дејств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дејства појединих хемијских супстанци су 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алије у развоју плод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о дејство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вару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леков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нцерогено деј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церогени агенс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дацима Међународне агенције за истраживање рака (</a:t>
            </a:r>
            <a:r>
              <a:rPr b="1" lang="en-US" sz="3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IАRC - The International Agency for Research оn Canc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видентирано је 783 канцерог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ргански канцероген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 метали и њихова једиње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нуклид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и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нцероген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и угљоводониц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рн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угљоводон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 дејство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њем отрова у организам долази до тровања (интоксикације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овања зависи од експозиције и апсорбоване количине отров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оже би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трајано уношење већих количина отр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кут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трајно понављано уношење отрова, углавном у мањим количинама - на радном месту (професионална тровања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екотоксик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отоксикологиј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млада научна дисциплина која проучава утицај различитих хемијских супстанци на човекову околину. Човекову околину представвљају биљке и животиње настањене у води и земљиш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Untitled8.png"/>
          <p:cNvPicPr/>
          <p:nvPr/>
        </p:nvPicPr>
        <p:blipFill>
          <a:blip r:embed="rId1"/>
          <a:stretch/>
        </p:blipFill>
        <p:spPr>
          <a:xfrm>
            <a:off x="1219320" y="3733920"/>
            <a:ext cx="6629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 тр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рта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рта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оследица по организам или са последицама по организа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а телесна оштећења или мања оштећења здрављ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зардне супстан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447560"/>
            <a:ext cx="7543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ли групе супстанци које су токсичне, перзистентне и имају тенденцију биоакумулације или на други начин доприносе нивоу забринутости називају с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зардним супстанца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ОЛОВОМ-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АМ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и су оловна пара, дим и пра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халација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јважнији пут уноса у професионалној токсикологиј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ест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кут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ВОРИ ЕКСПОЗИ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ловни бензин, пестициди, антикорозивна заштита, топионице руда олова, акумулатори са оловом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мпар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устриј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МПТОМИ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ачка грозни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са ретикулоцито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е колике цревне мускулату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инеуропатиј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и руб на десни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ђе 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овном глазуром у к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ем с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 садржај (вино, укисељено поврће и сл.)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елин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њ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овн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зу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ст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овн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онзумент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љава разво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овањ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астроинтестинални обл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уромускуларн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нцефалопатичк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шовит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пиј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ма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споје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живом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ам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ин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о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утан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ац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лацентарно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екотоксиколо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14800" y="121932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мељивачем екотоксикологије се сматра француски научник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haut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09-1994), који је крајем 60-тих година XX века, дефинисао термин екотоксикологије као науке која проучава токсичне ефекте разних агенаса на живе организме,а нарочито на популације и заједнице унутар екосисте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581640" cy="4610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85800" y="5943600"/>
            <a:ext cx="2814480" cy="78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R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Truha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ahoma"/>
                <a:ea typeface="Tahoma"/>
              </a:rPr>
              <a:t>(1909 –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 координациј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 нормалног ходањ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љена моћ интелектуалног схватањ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емоцијама и расположењ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чула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, укус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рганским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ма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Орофарингеални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синдром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нгивитис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дањ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Неуропсихички синдром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еничк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гетативн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меркизам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ецифичн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ор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т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улмоналн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оксичн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манифестациј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стицијск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умониј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итис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иол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ефротоксичн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манифестациј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ски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М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вај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ђ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с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еђуј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ј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у што дај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72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лн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кс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н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лминантним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тичним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8" descr="nekrotizirajuci dermatitis"/>
          <p:cNvPicPr/>
          <p:nvPr/>
        </p:nvPicPr>
        <p:blipFill>
          <a:blip r:embed="rId1"/>
          <a:stretch/>
        </p:blipFill>
        <p:spPr>
          <a:xfrm>
            <a:off x="5486400" y="1676520"/>
            <a:ext cx="3276720" cy="38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фарин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7" descr="Bronchial_Pneumonia550_ab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ог перио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јав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е дистроф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7" descr="atrofija flava hepatis"/>
          <p:cNvPicPr/>
          <p:nvPr/>
        </p:nvPicPr>
        <p:blipFill>
          <a:blip r:embed="rId1"/>
          <a:stretch/>
        </p:blipFill>
        <p:spPr>
          <a:xfrm>
            <a:off x="5791320" y="1905120"/>
            <a:ext cx="3047760" cy="3527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3200400" y="914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орцим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228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ск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к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м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пиј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ма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спитализа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тамин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о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ртив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о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 ДЕЈСТ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КР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184428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 У ВОДИ ЗА ПИ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арција бакра у води за пиће варира као последица корозије водоводних цеви. Нивои у текућој и потпуно  пречишћеној води су углавном ниски, док су у стајаћим водама, као и у узорцима делимично пречишћене воде већи,често и преко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екотоксик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главна подручја која чине суштину екотоксикологије су екологија и токсикологиј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ологиј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ука која се бави односом између живих бића и животне средин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ксикологиј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ат. toxicum= отров;  Гр.  toxicon (toxicоn )= “стрелни отров Гр. logоs = реч,говор,разум...наука. Токсикологија је наука која се бави проучавањем ефеката токсичних материја на организа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62940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Еколог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Untitled4.png"/>
          <p:cNvPicPr/>
          <p:nvPr/>
        </p:nvPicPr>
        <p:blipFill>
          <a:blip r:embed="rId1"/>
          <a:stretch/>
        </p:blipFill>
        <p:spPr>
          <a:xfrm>
            <a:off x="5943600" y="4114800"/>
            <a:ext cx="277164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Untitled7.png"/>
          <p:cNvPicPr/>
          <p:nvPr/>
        </p:nvPicPr>
        <p:blipFill>
          <a:blip r:embed="rId2"/>
          <a:stretch/>
        </p:blipFill>
        <p:spPr>
          <a:xfrm>
            <a:off x="5943600" y="1371600"/>
            <a:ext cx="2819520" cy="2190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6548040" y="632448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Токсиколог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3640" y="456840"/>
            <a:ext cx="77770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И НА БАЗИ БАК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љопривреди, за запрашивање биљака против корова,инсеката,гљив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доказано да бакар представља озбиљну индустријску опасност,било од акутног или хроничног тровања,али  се зна да удисање пара бакарних соли,доводи до иритације и атрофије носне слузниц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09480" y="990360"/>
            <a:ext cx="808848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ОФЕСИОНАЛНА ЕКСПОЗИЦИЈА БАК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ци топионица бакра су дуготрајно изложени пар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ашини које садрже високе концентрације бакра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се након дуготрајне експозиције испољава синдром сличан грипу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траје пар д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Bakarni-sjaj-u-domu.jpg"/>
          <p:cNvPicPr/>
          <p:nvPr/>
        </p:nvPicPr>
        <p:blipFill>
          <a:blip r:embed="rId1"/>
          <a:stretch/>
        </p:blipFill>
        <p:spPr>
          <a:xfrm>
            <a:off x="1676520" y="3505320"/>
            <a:ext cx="3770280" cy="2743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23640" y="380880"/>
            <a:ext cx="767700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АКАР  У ВАЗДУХУ,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 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бакра у ваздуху су ниске,тако да је изложеност респираторних органа бакру,практично занемарљи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о су особе које станују у близини топионица бакра,изложене високим концентрацијама бак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44704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И ЗНАЦИ ТРОВАЊА БАКРОМ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560" y="1752480"/>
            <a:ext cx="83818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акутног тровања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 бол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ку,мучнину,повраћање,хематемезу,мелену,дијареју,жутиц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жим случајевима може се испољити хипотензија,ком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па се чак може и летално завршити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i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ом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иритација и атрофија носне слузнице, надражајни кашаљ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i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рвенило,праћено сврабом,печењем,а некада кожа буде пребојена зеленом бојом.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ове тегобе се јављају и вртоглавица и главобоља,као знаци интоксикације централног нервног систе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за плућ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за плућа 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рофесионално обољење из групе пнеумокониоза,које настаје услед удисања и нагомилавања честица силицијум-диоксид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ућим</a:t>
            </a: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облика силицијум-диоксида, а најраспрострањенији у природи је кварц који се налази у многим стенама, песку и он изазива најчешће силикотичке проме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силикозе обољевају радници у рудницима (рударска болест),каменоломима, у индустрији где се копа и прерађује (камени угаљ,гранит, камени  песак злато,бакар,калај), у фабрикама где се сече, гравира и полира камен, као и у фабрикама стакла и керамик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плућима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силицијум-диоксида(страно тело) у плућима изазива реакцију околног ткива у виду накупљања везива и стварања чворића око ових чести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четку су ови чворићи величине 1-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растом се долази до колагенизације и хијалинизације њихове средине, те се суседни чворићи стапају у веће чворов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ремети нормалан крвоток и лимфоток у плућима па долази до настанка компликација  (бронхиектазија,емфизема плућа, оптерећења десног ср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јалини чворови такође показују тенденцију стварања каверни што представља подлогу за раст Кохових бацила,тако да је туберкулоза честа компликација силикозе. Поменуте промене у плућима се често компликују запаљењем плеуре (присутан је ексудат) са каснијим оптерећењем десног ср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првих симптома и знакова болести зависи од  дужине  експозиције, као и од узраста радника и стања ретикулоендотелн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је за испољавање силикозе потребно 3-5 година,међутим постоје и случајеви где се силикоза јавља и ран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ју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а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в каша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тадију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разитије зама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спне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езање у груд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шаљ са искашљавањем лепљивог испљувка у коме има честиц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а и друге нау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5" descr=""/>
          <p:cNvPicPr/>
          <p:nvPr/>
        </p:nvPicPr>
        <p:blipFill>
          <a:blip r:embed="rId1"/>
          <a:stretch/>
        </p:blipFill>
        <p:spPr>
          <a:xfrm>
            <a:off x="755640" y="2041560"/>
            <a:ext cx="7480440" cy="4103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838080" y="1371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знања других нау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тадију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ремећај вентилације плућа са поремећајем механике дис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наци емфизема (бачваст грудни кош,проширени међуребарни простори,хиперсонарност)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лабљено дисање,са бронхогеним шушњевима и визингом,ређе продужен експирију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чана радња убрзана,тонови тих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ју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хексија, узнемиреност, замарање при најмањем напо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прекидан кашаљ, знаци хроничног плућног ср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и лечење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је превенирати ово обољење, применом општих и индивидуалних  заштитиних мера које се спроводе у циљу спречавања стварања и удисања праши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 мере заштите: адекватна вентилација,чишћење радних просторија, одређивање процента заступљености силицијум диоксида у ваздух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е мере заштите: маске, филтрирајући респиратор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вне лекарске контроле, скраћење радног дана и дужи одмор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томатск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и бронхитис,превенирати настанак туберкулоз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са радом, у случају да се болест открије у првом стадијуму, не доводи увек до престанка прогредирања обоље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откривена у другом или трећем стадијуму или ако је удружена са туберкулозом прогноза је неповољ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од штетних супстанц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метиз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матиз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е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лњањ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х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ањ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х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е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ц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ља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ира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ред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 екотоксиколо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1404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екотоксиколошки подаци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и су з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у лептира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ton betular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вој половини 19. век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49.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нађен је црн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јетет лептира назван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aria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љен великом количином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ђи из фабри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друге половине 19. века, учесталост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ог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ла с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ико повећал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ј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ијетет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Carbonaria"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влад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ебно у индустријском загађеном подручју Манчестер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3048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С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Е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66680"/>
            <a:ext cx="5943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 оштећење животне средин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видентирал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истраживачи 1962. годи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hel Carson ј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лежил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ве негативне ефекте DDT-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хлор-дифенил-трихлоретан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локалну флору и фауну у Мериленд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. написал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Тихо пролеће" у којој је детаљно описала штетне учинке DDT-а и сличних пестицида на људско здравље и прир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а је стекла велику популарност и убрзо након њене смрти власти САД су забраниле употребу DDT-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File:Rachel-Ca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219320"/>
            <a:ext cx="2590920" cy="327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553080" y="48006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RACHEL CA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ahoma"/>
                <a:ea typeface="Tahoma"/>
              </a:rPr>
              <a:t>(1907 – 196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8T09:03:08Z</dcterms:created>
  <dc:creator>Maja</dc:creator>
  <dc:description/>
  <dc:language>en-US</dc:language>
  <cp:lastModifiedBy>Maja</cp:lastModifiedBy>
  <dcterms:modified xsi:type="dcterms:W3CDTF">2020-09-28T11:51:08Z</dcterms:modified>
  <cp:revision>370</cp:revision>
  <dc:subject/>
  <dc:title>Универзитет у Крагујевцу Факултет медицинских наука</dc:title>
</cp:coreProperties>
</file>